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8A3-85E1-4775-ABE7-384CB215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FDB-D673-4456-B8B8-5CAE778A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112-08B9-4B23-B7C0-40F97D1C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3E5-9823-484E-921B-2D481273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695-DB4B-4157-86CA-928AAA3C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28A-F244-42CD-BD7E-A010B27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AD2-BA7C-48FA-817A-8518C11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BE9-B292-4C65-83AA-0BAFAC44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706-AD04-4B07-9966-75D81AD1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F63-4706-4112-9471-1E64B11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477-44F4-4D0B-B855-464266AB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3E3-52FD-4981-AE5A-49922583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000B-12EF-4A62-9B12-F57FAB4AA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lackadder ITC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Vocabulary Wo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Blackadder ITC"/>
              </a:rPr>
              <a:t>Alyssa Harm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477120" cy="1752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unstler Script"/>
              </a:rPr>
              <a:t>Poli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Kunstler Script"/>
              </a:rPr>
              <a:t>A Greek City-Stat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1143000" y="1752480"/>
            <a:ext cx="6477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5181480" cy="17524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Philosoph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 study of wisdom and the right way to l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ttp://t0.gstatic.com/images?q=tbn:ANd9GcRc5n55FqnOUzb2UQUGYWpVr6_3BsD3c7-S3RkshlezPfPC9qs--g"/>
          <p:cNvPicPr/>
          <p:nvPr/>
        </p:nvPicPr>
        <p:blipFill>
          <a:blip r:embed="rId1"/>
          <a:stretch/>
        </p:blipFill>
        <p:spPr>
          <a:xfrm>
            <a:off x="2133720" y="1752480"/>
            <a:ext cx="51591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eninsu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An area of land nearly surrounded by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t1.gstatic.com/images?q=tbn:ANd9GcREcUxLLrBE0zh24LtWAl84kbQtq5dcripO0nKSnIj9wuBHsgmvtw"/>
          <p:cNvPicPr/>
          <p:nvPr/>
        </p:nvPicPr>
        <p:blipFill>
          <a:blip r:embed="rId1"/>
          <a:stretch/>
        </p:blipFill>
        <p:spPr>
          <a:xfrm>
            <a:off x="2590920" y="175248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Condensed"/>
              </a:rPr>
              <a:t>Peloponnesian W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ockwell Condensed"/>
              </a:rPr>
              <a:t>The war between Athens and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t2.gstatic.com/images?q=tbn:ANd9GcQQKhY5D_h5cdMqIBFQEChKiLWl604eWmQaK-eLN6NoXiQ8-D3R"/>
          <p:cNvPicPr/>
          <p:nvPr/>
        </p:nvPicPr>
        <p:blipFill>
          <a:blip r:embed="rId1"/>
          <a:stretch/>
        </p:blipFill>
        <p:spPr>
          <a:xfrm>
            <a:off x="1676520" y="1371600"/>
            <a:ext cx="5333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Oligarch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The kind of government that is run by a small group of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63360" y="-426960"/>
            <a:ext cx="1343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63360" y="-426960"/>
            <a:ext cx="1343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63360" y="-426960"/>
            <a:ext cx="1343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http://t1.gstatic.com/images?q=tbn:ANd9GcSdjMfjtCtUnHFRIqQQ1RfAwR_a6Qn_7s5kzZq7TEyIfyJgSqiSJg"/>
          <p:cNvPicPr/>
          <p:nvPr/>
        </p:nvPicPr>
        <p:blipFill>
          <a:blip r:embed="rId1"/>
          <a:stretch/>
        </p:blipFill>
        <p:spPr>
          <a:xfrm>
            <a:off x="2133720" y="1600200"/>
            <a:ext cx="48006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arb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 sheltered place along a coas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3360" y="-43344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t3.gstatic.com/images?q=tbn:ANd9GcRAlbbwRxzHJ81VC-w2KUl5uh16yjvo2o_1gDZ_dQbp0q9lGOR8JA"/>
          <p:cNvPicPr/>
          <p:nvPr/>
        </p:nvPicPr>
        <p:blipFill>
          <a:blip r:embed="rId1"/>
          <a:stretch/>
        </p:blipFill>
        <p:spPr>
          <a:xfrm>
            <a:off x="1752480" y="1371600"/>
            <a:ext cx="5754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Demi ITC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2.gstatic.com/images?q=tbn:ANd9GcQgboeUdW9tbWjWbea7VamZoijgbXg4HlJCOG0Bf9cyYIetjEzD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2362320" y="1143000"/>
            <a:ext cx="47242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low Solid Italic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t0.gstatic.com/images?q=tbn:ANd9GcRFHCiXMLGhYN41yVpJN8H-19Yw57WWF8qJJnzI5TB_J6xT7qeM"/>
          <p:cNvPicPr/>
          <p:nvPr/>
        </p:nvPicPr>
        <p:blipFill>
          <a:blip r:embed="rId1"/>
          <a:stretch/>
        </p:blipFill>
        <p:spPr>
          <a:xfrm>
            <a:off x="2362320" y="2209680"/>
            <a:ext cx="4741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476760" cy="19810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Assemb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 law making place where people voted on issues that helped their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1.gstatic.com/images?q=tbn:ANd9GcT3zJAUZ-vZrcShiLEascyXUgXUtc8oLBveJRVStSs8nILMkMKb"/>
          <p:cNvPicPr/>
          <p:nvPr/>
        </p:nvPicPr>
        <p:blipFill>
          <a:blip r:embed="rId1"/>
          <a:stretch/>
        </p:blipFill>
        <p:spPr>
          <a:xfrm>
            <a:off x="2438280" y="1981080"/>
            <a:ext cx="4267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324840" cy="1676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Citiz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A person who has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2.gstatic.com/images?q=tbn:ANd9GcSbeJ07pS7O-5EGBzIUxvNSTer_-joFSviDskDUfh7IKliDOGAu"/>
          <p:cNvPicPr/>
          <p:nvPr/>
        </p:nvPicPr>
        <p:blipFill>
          <a:blip r:embed="rId1"/>
          <a:stretch/>
        </p:blipFill>
        <p:spPr>
          <a:xfrm>
            <a:off x="1295280" y="1676520"/>
            <a:ext cx="6324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81680" cy="16765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ush Script MT"/>
              </a:rPr>
              <a:t>Colon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ush Script MT"/>
              </a:rPr>
              <a:t>A group of people who lived apart from Greece but kept economic ties with 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2.gstatic.com/images?q=tbn:ANd9GcTEDE_oJ8L5T4NAEoLbvz6Bqc4v_h9wwa0uzdSzzhpjiV_r-HJG"/>
          <p:cNvPicPr/>
          <p:nvPr/>
        </p:nvPicPr>
        <p:blipFill>
          <a:blip r:embed="rId1"/>
          <a:stretch/>
        </p:blipFill>
        <p:spPr>
          <a:xfrm>
            <a:off x="2133720" y="1676520"/>
            <a:ext cx="518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laybill"/>
              </a:rPr>
              <a:t>Democra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laybill"/>
              </a:rPr>
              <a:t>A form of government where people vote to make de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t0.gstatic.com/images?q=tbn:ANd9GcTq-OzG9-ZXM5qMjCEI852-it0Bwyg7sCc1jkddCjutCKPWTytM"/>
          <p:cNvPicPr/>
          <p:nvPr/>
        </p:nvPicPr>
        <p:blipFill>
          <a:blip r:embed="rId1"/>
          <a:stretch/>
        </p:blipFill>
        <p:spPr>
          <a:xfrm>
            <a:off x="2590920" y="1371600"/>
            <a:ext cx="3886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086600" cy="18288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Ju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They hear evidence and make decisions in a court of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t3.gstatic.com/images?q=tbn:ANd9GcTDNxVy2LpjNWF-QN6ju7Ui8OGBMsAq7vmZMVy3hgpMuzKGb0T8"/>
          <p:cNvPicPr/>
          <p:nvPr/>
        </p:nvPicPr>
        <p:blipFill>
          <a:blip r:embed="rId1"/>
          <a:stretch/>
        </p:blipFill>
        <p:spPr>
          <a:xfrm>
            <a:off x="1676520" y="1828800"/>
            <a:ext cx="5562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1752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Monarc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overnment headed by one ru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t2.gstatic.com/images?q=tbn:ANd9GcQgTIby05agkbKD3qXd7oRu-o0TiZIyGgUtoazgn9pu9eI2pPhH7w"/>
          <p:cNvPicPr/>
          <p:nvPr/>
        </p:nvPicPr>
        <p:blipFill>
          <a:blip r:embed="rId1"/>
          <a:stretch/>
        </p:blipFill>
        <p:spPr>
          <a:xfrm>
            <a:off x="2590920" y="1752480"/>
            <a:ext cx="39621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8T15:59:51Z</dcterms:modified>
  <cp:revision>116</cp:revision>
  <dc:subject/>
  <dc:title>Ancient Greece</dc:title>
</cp:coreProperties>
</file>